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F26-B875-4834-B0F1-644C7271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C6F-4B1B-4070-956E-578485D6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186-97DB-4D70-807E-FAFF3DC8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3D1-BA1C-4548-9B6D-23064F02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C36-548E-441C-AC78-06AF19E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F14-3EA8-460D-953F-884C7D1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6DE-C7E4-4104-A973-2A24C46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CA4-17D7-4162-A435-5045067F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03-26B8-4A73-84EC-3A7B530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08E-E7A5-4C8C-85FF-CBB5A99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B3C-8E44-4EC6-ADA8-F768C49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117-EA9D-40BD-9BBB-E6D8099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3224-B64E-4FBB-AE13-E94AFE57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44640"/>
            <a:ext cx="7129440" cy="14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arbo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3789360"/>
            <a:ext cx="714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arbon, Silicon, Germanuim, Tin, 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Metals, Metals, and Metall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a Non-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and Germanium are Me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and Lead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00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in group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are carbon di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4 electrons in the outer 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“carbon” comes from the Latin language carbo, coal, and, in some Romance and Silavic languages, the word carbon can either refer to an element or 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6:41Z</dcterms:created>
  <dc:creator>tatumadmin</dc:creator>
  <dc:description/>
  <dc:language>en-US</dc:language>
  <cp:lastModifiedBy>tatumadmin</cp:lastModifiedBy>
  <dcterms:modified xsi:type="dcterms:W3CDTF">2009-12-04T21:05:24Z</dcterms:modified>
  <cp:revision>4</cp:revision>
  <dc:subject/>
  <dc:title>Slide 1</dc:title>
</cp:coreProperties>
</file>